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DAC3-C387-4A17-92E3-221FCB60B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F71D-470B-451E-BD96-C55167F3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9FC7-BDD4-4769-835A-3AD7945A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74E6-C80E-420C-8BB1-B1B90C20F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6892-5FB0-4124-A1D5-C452EAA3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982D-05FB-4C7B-83A3-B3EC018D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6EC2-14BF-489B-BDD3-65E3DE16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BCC4-EE97-4626-A8C8-D4A3C3A1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2421-0EA1-4C9B-86DD-719B9640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C4ED-873D-4E13-86C5-B518736C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E83E-08BB-4016-B481-991A0D28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0D7C-2B03-4E21-B011-A476FC6D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4EA5-27D7-468A-9CF3-A08E9917E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cw.mit.edu/ans7870/21f/21f.027/opium_wars_01/image/a_1824_PZ0240_Lintin_n70297.jpg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18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8600" y="31240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Arial"/>
              </a:rPr>
              <a:t>«Китай: сопротивление реформам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80"/>
            <a:ext cx="8686800" cy="990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овая история, 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638680"/>
            <a:ext cx="7924680" cy="990720"/>
          </a:xfrm>
          <a:prstGeom prst="rect">
            <a:avLst/>
          </a:prstGeom>
          <a:gradFill rotWithShape="0">
            <a:gsLst>
              <a:gs pos="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нтоненкова А.В., учитель истории МОУ Будинской О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вер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376920" y="376560"/>
            <a:ext cx="8390160" cy="8924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собенности промышленной револю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16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лицей Небесного государства стал город Нанкин, Хун Сюцюаня объявили «небесным князем». Восставшие пытались воплотить идеи уравнительного распределения материальных бла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тайпин тяньго 1851-1864"/>
          <p:cNvPicPr/>
          <p:nvPr/>
        </p:nvPicPr>
        <p:blipFill>
          <a:blip r:embed="rId2"/>
          <a:stretch/>
        </p:blipFill>
        <p:spPr>
          <a:xfrm>
            <a:off x="152280" y="1523880"/>
            <a:ext cx="4362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0" y="144756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щё в период существования государства тайпинов к власти в Китае пришла императрица Цыси, которая фактически руководила страной с 1861 по 1908 г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99760" y="2944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вижение тайпин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File:The Ci-Xi Imperial Dowager Empress (9.2).PNG"/>
          <p:cNvPicPr/>
          <p:nvPr/>
        </p:nvPicPr>
        <p:blipFill>
          <a:blip r:embed="rId2"/>
          <a:stretch/>
        </p:blipFill>
        <p:spPr>
          <a:xfrm>
            <a:off x="152280" y="1371600"/>
            <a:ext cx="4094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71160" y="294480"/>
            <a:ext cx="847800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урс на политику самоусил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1371600"/>
            <a:ext cx="861084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33"/>
                </a:solidFill>
                <a:uFillTx/>
                <a:latin typeface="Arial"/>
              </a:rPr>
              <a:t>Цел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имствовать западную технику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ользовать новые знания для усиления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2743200"/>
            <a:ext cx="485640" cy="4572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3200400"/>
            <a:ext cx="8763120" cy="34290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алось строительство судоверфи, во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Закупали вооружение, суда, маш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Строились железные дор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Рост бюрократического аппарата и корруп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Появились учебные заведения запад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раз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Развивается банковское д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191120" y="1523880"/>
            <a:ext cx="44956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аздираемый на части Кита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0" y="1676520"/>
            <a:ext cx="3657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учебнику: стр. 2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File:China imperialism cartoon.jpg"/>
          <p:cNvPicPr/>
          <p:nvPr/>
        </p:nvPicPr>
        <p:blipFill>
          <a:blip r:embed="rId2"/>
          <a:stretch/>
        </p:blipFill>
        <p:spPr>
          <a:xfrm>
            <a:off x="228600" y="1523880"/>
            <a:ext cx="38498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100 дней» реформ и их последств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733560" y="1600200"/>
            <a:ext cx="5257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дером реформаторов становится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Кан Ювэ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крупный учёный, специалист по древней китайской литературе, истории и философ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ступающие за проведение реформ и введение в стране парламентской монархии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File:Kang-youwei2-large.jpg"/>
          <p:cNvPicPr/>
          <p:nvPr/>
        </p:nvPicPr>
        <p:blipFill>
          <a:blip r:embed="rId2"/>
          <a:stretch/>
        </p:blipFill>
        <p:spPr>
          <a:xfrm>
            <a:off x="228600" y="1523880"/>
            <a:ext cx="35226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100 дней» реформ и их последств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5049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лодой император Гуансюй решил поддержать реформаторов и 11 июня 1898 г. издал первый указ о преобразова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File:The Imperial Portrait of Emperor Guangxu2.jpg"/>
          <p:cNvPicPr/>
          <p:nvPr/>
        </p:nvPicPr>
        <p:blipFill>
          <a:blip r:embed="rId2"/>
          <a:stretch/>
        </p:blipFill>
        <p:spPr>
          <a:xfrm>
            <a:off x="304920" y="1523880"/>
            <a:ext cx="28954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сстание ихэтуане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1144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33"/>
                </a:solidFill>
                <a:uFillTx/>
                <a:latin typeface="Arial"/>
              </a:rPr>
              <a:t>Ихэтуан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тайное общество                « Кулак во имя мира и справедливост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File:BoxerSoldiers.jpg"/>
          <p:cNvPicPr/>
          <p:nvPr/>
        </p:nvPicPr>
        <p:blipFill>
          <a:blip r:embed="rId2"/>
          <a:stretch/>
        </p:blipFill>
        <p:spPr>
          <a:xfrm>
            <a:off x="228600" y="1600200"/>
            <a:ext cx="3911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сстание ихэту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сставшие уничтожали машины, рубили телеграфные столбы, ломали захваченные оружия, разбирали железные дор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File:Boxer-tianjing-left.jpeg"/>
          <p:cNvPicPr/>
          <p:nvPr/>
        </p:nvPicPr>
        <p:blipFill>
          <a:blip r:embed="rId2"/>
          <a:stretch/>
        </p:blipFill>
        <p:spPr>
          <a:xfrm>
            <a:off x="228600" y="1523880"/>
            <a:ext cx="4245120" cy="4572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52280" y="6095880"/>
            <a:ext cx="4419720" cy="60984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хэтуани в Тяньцз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азнь ихэту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File:Execution of Boxer leaders at Hsi-Kou 1900-1901.jpg"/>
          <p:cNvPicPr/>
          <p:nvPr/>
        </p:nvPicPr>
        <p:blipFill>
          <a:blip r:embed="rId2"/>
          <a:stretch/>
        </p:blipFill>
        <p:spPr>
          <a:xfrm>
            <a:off x="457200" y="1447920"/>
            <a:ext cx="76201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сстание ихэту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File:BoxerTroops.jpg"/>
          <p:cNvPicPr/>
          <p:nvPr/>
        </p:nvPicPr>
        <p:blipFill>
          <a:blip r:embed="rId2"/>
          <a:stretch/>
        </p:blipFill>
        <p:spPr>
          <a:xfrm>
            <a:off x="457200" y="1447920"/>
            <a:ext cx="8153280" cy="5219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52280" y="6095880"/>
            <a:ext cx="8458200" cy="60984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оружённые силы альянса восьми держ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Открытие Китая» « Опиумный войны» и их послед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вижение тайпи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урс на политику самоуси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дираемый на части Кит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100 дней реформ» и их послед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сстание ихэтуа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Новая политика» Цы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71160" y="2944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аботаем по план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Новая политика» Цыс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читайте материал на стр. 228-229 и докажите примерами, что в Китае действительно начались изме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File:Empress Dowager Cixi (c. 1890).jpg"/>
          <p:cNvPicPr/>
          <p:nvPr/>
        </p:nvPicPr>
        <p:blipFill>
          <a:blip r:embed="rId2"/>
          <a:stretch/>
        </p:blipFill>
        <p:spPr>
          <a:xfrm>
            <a:off x="228600" y="1523880"/>
            <a:ext cx="3621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гра « Крестики-ноли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араграф 28, записи, вопросы 4 или 5 письмен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ocw.mit.edu/ans7870/21f/21f.027/opium_wars_01/image/a_1824_PZ0240_Lintin_n7029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blog.holachina.net/wp-content/uploads/2009/03/chinese-opium-smoker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www.my-article.net/data/files/tinymce/68/img/aj/aj/as/as/as/ad/af/as/00012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ru.wikipedia.org/wiki/%D0%A2%D0%B0%D0%B9%D0%BF%D0%B8%D0%BD%D1%81%D0%BA%D0%BE%D0%B5_%D0%B2%D0%BE%D1%81%D1%81%D1%82%D0%B0%D0%BD%D0%B8%D0%B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commons.wikimedia.org/wiki/File:Empress_Dowager_Cixi_(c._1890).jpg?uselang=ru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работе использованы ресур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800240" y="129528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644 году Пекин был завоёван маньчжу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ласти, боясь колонизаторской политики европейских государств и разрушения традиций                      « закрыли» страну для европей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9960" y="285480"/>
            <a:ext cx="834408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Открытие» Кит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войны китая"/>
          <p:cNvPicPr/>
          <p:nvPr/>
        </p:nvPicPr>
        <p:blipFill>
          <a:blip r:embed="rId2"/>
          <a:stretch/>
        </p:blipFill>
        <p:spPr>
          <a:xfrm>
            <a:off x="380880" y="1266840"/>
            <a:ext cx="4038840" cy="2793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80880" y="4038480"/>
            <a:ext cx="396252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2392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орговля с Великобританией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кспорт чая и шелка, импорт опи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8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Открытие» Кита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чайный куст"/>
          <p:cNvPicPr/>
          <p:nvPr/>
        </p:nvPicPr>
        <p:blipFill>
          <a:blip r:embed="rId2"/>
          <a:stretch/>
        </p:blipFill>
        <p:spPr>
          <a:xfrm>
            <a:off x="228600" y="1523880"/>
            <a:ext cx="4495680" cy="2694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552760" y="4267080"/>
            <a:ext cx="2247840" cy="2248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52280" y="4267080"/>
            <a:ext cx="23814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419720" y="1371240"/>
            <a:ext cx="4419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крытое столкновение китайского народа с европейскими державами вылилось в опиумные войны 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1840-1842 и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1856 – 1860 г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76280" y="285480"/>
            <a:ext cx="830592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Опиумные войны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038480" cy="2698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28600" y="4114800"/>
            <a:ext cx="396252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267080" y="1219320"/>
            <a:ext cx="4648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Итогом войн ста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глия получила Гонко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остранцы – право торговать в важнейших пор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решался ввоз опи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вропейские подданные освобождались от подчинения китайским нар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алась активная колон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85480" y="285480"/>
            <a:ext cx="857304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Опиумные войн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8600" y="4038480"/>
            <a:ext cx="3809880" cy="2506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3886200" cy="26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умайте, почему Китай проиграл эти « опиумные» вой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чему поражение Китая обозначало крах маньчжурской династ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10320" y="309960"/>
            <a:ext cx="844704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Опиумные» вой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вижение тайпин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1523880"/>
            <a:ext cx="8001000" cy="106704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чины начала дви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86360" y="2590920"/>
            <a:ext cx="714240" cy="533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3124080"/>
            <a:ext cx="8686800" cy="327672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ражение в опиумных войн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езземелие кресть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кращение земельных нало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громные нал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соответствие идеям конфуциа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343400" y="159984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уководителем движения был сельский учитель, выходец из крестьян. Хорошо знавший жизнь народа. Он утверждал о том, что Бог поручил ему избавить Китай от дьявола( династии Цинь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99400" y="416880"/>
            <a:ext cx="81730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вижение тайпин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File:Hong Xiuquan.jpg"/>
          <p:cNvPicPr/>
          <p:nvPr/>
        </p:nvPicPr>
        <p:blipFill>
          <a:blip r:embed="rId2"/>
          <a:stretch/>
        </p:blipFill>
        <p:spPr>
          <a:xfrm>
            <a:off x="228600" y="1523880"/>
            <a:ext cx="4029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15T18:01:5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